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7674-473F-4C31-9D0E-0BEE2AFA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CAAC-69BA-4984-86A1-FC20F076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CCAF-5F78-41B4-8518-0D53C12C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37D8-270F-4E24-90F2-22333947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C18C-2F6C-430F-B5B7-B3CB3FFE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F546-C237-4C62-90DE-AB594DA3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6E25-35EC-48A9-98E4-F43D7255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7E48-6C9B-4B1F-AE1F-FF1DB154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F5D3-33B6-4AAE-9E27-AE935204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6020-4A3B-4928-B5E1-72C4DFD2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2CD3-98F9-44EA-BBEF-7E5FFBF9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C3AF-1890-46A5-A8E2-08E913D2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21E1-B67E-45E4-B422-93F1BEC3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F434-7D58-487E-9153-7B459412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3875-74C7-4262-94CD-43CE4B6F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4D5B-1228-44A6-A9BE-35D7E3E8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EC69-1FA7-4A5F-B924-D46BD2C3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590E-455C-446A-8317-98618DA2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83FB-AF59-4459-93CC-1D75A21A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B938-DFB7-47FB-BBFB-A554D3E5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920E-C886-4758-AB56-7B214080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59F2-056E-418F-964C-4ADB1F5C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520F-BC13-4B57-B66D-F52455A9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21D6-7BD1-4812-A79F-23393922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0558-5B45-4786-A42B-E1776E1118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214C-B7B5-430F-9199-7C42A116D0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e llamo __________           Clase 702 </a:t>
            </a:r>
            <a:br>
              <a:rPr sz="3200"/>
            </a:b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La fecha es el 29 de enero del 2015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4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20443"/>
                </a:solidFill>
                <a:latin typeface="Arial"/>
              </a:rPr>
              <a:t>Propósito # 47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A que hora empiezas las cl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20443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completa con la forma correcta del verbo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e -&gt; ie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jugadores/empezar a jug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dos equipos/ querer gan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os/preferir marcar muchos ta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chez/querer meter un g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ortero/querer parar el ba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equipo de Sanchez/no pe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66"/>
                </a:solidFill>
                <a:latin typeface="Arial"/>
              </a:rPr>
              <a:t>Pract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55800"/>
            <a:ext cx="86868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grupos de 3 o 4 alumnos, Copia y respo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mpiezan ustedes a jug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mpiezan ustedes a jugar a las t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ieren ustedes ganar el parti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ieren ustedes marcar un ta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ierden ustedes a veces o ganan siemp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refieren ustedes jugar en el parque o en la cal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e20443"/>
                </a:solidFill>
                <a:latin typeface="Arial"/>
              </a:rPr>
              <a:t>Ejercici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jercicio 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. 17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415800" y="2666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66"/>
                </a:solidFill>
                <a:latin typeface="Arial"/>
              </a:rPr>
              <a:t>Tarea # 47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tent Placeholder 1"/>
          <p:cNvSpPr/>
          <p:nvPr/>
        </p:nvSpPr>
        <p:spPr>
          <a:xfrm>
            <a:off x="380880" y="41911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BO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ta p. 5.9-5.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6:27:39Z</dcterms:created>
  <dc:creator>Helen Zumaeta</dc:creator>
  <dc:description/>
  <dc:language>en-US</dc:language>
  <cp:lastModifiedBy>Helen Zumaeta</cp:lastModifiedBy>
  <dcterms:modified xsi:type="dcterms:W3CDTF">2015-01-29T16:37:26Z</dcterms:modified>
  <cp:revision>10</cp:revision>
  <dc:subject/>
  <dc:title>Me llamo __________    Clase 7 IM La fecha es el 2 de diciembre del 2010</dc:title>
</cp:coreProperties>
</file>